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C11-07FB-439B-AD69-E92BEEA2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FD1-3BC3-48C8-9147-F4E5D73E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95C03-0118-4E41-A5DF-ACE63A8A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5F21D-83AC-4782-8504-C9996459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BB2EF-7D62-492C-9C2E-DECE8F3A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BEAC3-ABD4-44AA-A7DC-325FE0B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506F9-FC91-4F4E-9757-03E3A1E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DCDE5-D627-4145-936B-6765BAF5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127BF-723B-47BC-A5C0-0B9CCE3D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26744-7E4A-42B2-A493-1D5D7609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A368-69F7-4369-BCC1-5EB573D8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BF35E-FE4D-4F91-B15C-95D4B41A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256-6F15-4724-B847-328CF4CF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0FED9-E2A9-4927-9CED-BC37445E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3D50B-D7B5-4EE8-B813-42F4107A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448CB-C9CC-4094-94E5-6EAE4190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83DCB-7144-4C56-B7B6-3C0969AC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CBE86-4697-492F-8254-D511D338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3E52E-998D-4608-80C1-6C178A7B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A1E56-B6BA-4B56-91AA-7C082F6F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4BB35-376B-4F69-A2A5-C054A00C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D1CD8-C3FC-4EC9-9492-155F037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AA808-B9C7-452B-9032-05B8AC69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2C0-A175-4202-8C57-8FFFCB02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45079-0097-463F-BA7D-C1691ECC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68E6C-A38E-456A-80CA-7A50676E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7DE9C-4DCA-4364-8D98-054A9ACF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0F4E9-E034-4BE8-85EC-8AA19F56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D5F3A-EAFB-4788-877A-A7F8CD2A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4AD72-3306-4E81-A2AA-03400B02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B05EF-040B-4A44-B3AC-DE563D40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0D914-B628-4C34-904C-9D617A69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87CF9-DE16-4B54-B000-643582B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9BFD8-E160-4D2D-B638-A8F50134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BB02-C30E-4945-88F6-4951E473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22780-E2AD-4451-B911-770D28FE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2EE9E-8742-4DB7-970B-DA672F32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8A329-E2FA-4E2A-B2E7-40950589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C05F4-E9A1-4FA8-A1D5-B04E97CB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27FD5-208B-4308-BA22-F1C6F34E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A88F4-60AD-4C0F-86A1-12B4B47D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670CC-EE2D-4AB8-B5BF-6EEF7A8A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7D50C-513C-40B5-A026-6365F81F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A9C00-3D6C-4C4D-B9C9-340D59C1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D6A0D-BA9D-49EA-ACBA-6C7C63A7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79A7-4A4D-4C12-B03E-63832B1B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0A55E-E802-4DF3-87BD-BB13F17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9EA8E-D802-45E6-B89F-D944688D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8EC04-4C7C-4DCD-BF68-10FCE118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EC53B-2C43-4E95-AEEB-06E07365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FCFA4-C481-49A7-90D9-E512AE82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C904E-1E5D-4EC6-ABBE-581525C5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922CC-FE97-40F6-9A4E-56157FBD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268F9-C750-4F9F-BFC5-1D711EFC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93A4F-3619-42CC-AAF0-82B4278A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D5579-CBEE-484D-BFF7-ADD349DA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818E-F339-4309-8006-FEF5D0C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AC967-0DF3-46F7-9B49-A0E3E149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71FB6-6531-40F8-A6F4-D31D2D73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BE317-7A83-457A-8BC3-414D1EE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13E24-B60B-4A58-87E4-10478465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45C97-8ACB-4F12-BB11-82B22C8C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E35CB-5745-452B-98F5-352A775C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01E18-7D35-40C5-AE98-D9C670E9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CBABA-2F57-48C8-97B1-900253B8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B8A8F-6586-4FC4-8C7B-44D61EE0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C087F-50AD-46E6-983C-A1BC8849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D4C0-21F1-409F-AD2D-FAA45415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BDEC6-1D4C-4DE1-AF0F-2F19E964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73A4F-DD9B-4C7C-BC6A-2EB666A5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937B8-7D38-47D6-993B-5A2F5D79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0237A-2020-4B3D-BF92-C6C6D7F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FD21D-EFE4-4B95-B14C-6F4634C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9D43F-C6C9-4411-91CB-BE04E9A8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965B2-84F0-4A1E-9F0D-26578D08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5E927-73FF-4A9E-A1B7-2F0889F2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A098F-D66F-45BB-BC96-C16B43B2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FEC55-4811-4DEF-8B5B-FD99FC5F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CEA6-0EE0-4C67-B653-31909E2F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A6397-F94B-4FF6-9045-FE6FD555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87712-18FD-486A-8A06-798B00BE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4E056-AD58-47F9-A4DE-7E6797C4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F4C77-E7B9-41BF-B56A-F321886D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79D96-1122-440D-8B3A-C4B4F9C7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38B79-B1F3-4ADF-B505-49DDF0C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DB525-636D-48CA-8DC2-37FD363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A6497B-4CBC-4414-96DE-5FE27296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6BE05-E581-42AD-B315-8F4309FA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7FEEF-55AE-4229-94AA-93F4AB57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EADE-A875-4128-BFAC-1922399F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8F9B6-7D34-4A0E-9C18-28673C47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E7F47-C243-4C84-9DF2-F3B1436A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97BDE-A6B7-4F07-B8C7-A9FE4F06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DA20B-9727-4221-9035-69FEDBCD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857C6-5197-486B-97DF-0FB0E8E5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A2841-763B-4257-80CA-91E49E9D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FB7DA-930E-48FD-A94C-BDF4D2DC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CEFDE-D991-4FA5-B568-26010EC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3794B1-3DBD-4E40-8086-09A1EA6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DABEB-361F-47BB-8D15-BD87413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E527-7D0F-4838-864C-AD9BA22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B6081-91E3-4877-8687-50B58238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11D1B-C159-4490-995A-B67E36EB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B74E7-0B2F-4907-BE77-DD86E6F0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F946CF-D684-46DE-BC8F-FF2EC64B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ABF4B-2D65-4D5B-82F6-A849D4B7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C54F9-A8CB-482E-8762-A08F786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D0242-80AD-4D80-8F9F-0FC54B08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6B77B-557B-4AFC-9582-F0D669CE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5D940-3FE4-4AC9-980A-12B2C7D9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71CA5-CB20-4829-84B0-80CB478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0C0-94CF-4131-A61A-E56B3351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94A0-563D-41FB-ACAF-AB25339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87CFE-A671-411B-9C11-4AF6FD6A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37B65-B55E-400F-BA27-BFBDF87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B9AC0-9207-401E-A7E0-ED12051A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94C57-7462-4FD7-AF92-9EF89F0F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490C6-A5F9-4862-9D8D-5A13C04A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C9BA8-9442-4FDC-82A7-58CB04A1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2D037-F97E-41F5-906E-7FB36870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CC2FB-D24E-4E72-8BA4-0170BD9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65B957-2E78-463F-8E24-682721F5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29217-2811-4A71-9035-D3BAF489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000F-8BAD-4ECA-BA8F-70FD0C69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1AA86-B890-4CA4-8C34-52A71469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CF169-AC38-4ADD-9FE9-6961F4F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4E75F-6451-4DF2-A2B7-9021ACDC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50C3F-E9F9-410B-B75D-A8259DE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5B91C-9098-4997-AC1A-CF6C9FD5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8A748-9F6E-4EB0-A7A2-03E09AB7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F65E0-30F3-4FFD-BBF6-19376B82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C30F-507D-4F98-910A-AFC636EA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B110-13D7-4B11-A3CD-004A4C5E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3C2A-49A0-433B-997A-20DF60A9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D15D-826E-473E-83C0-1AD2DB1C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874D-8E9D-45E2-BC0D-292915E3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A2F1-E496-4FBF-9057-0A0CDC17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15E9-1CFE-4E87-A884-7EDEC532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3B4B-4363-4014-9AD2-B67464F8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D9A-A6D2-43A0-9B3E-D1AC26D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5145-E307-4D3C-89AB-6D996054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AF8D-5D47-4E74-8AD0-41C5B828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081A-84D1-4311-B964-5632D6CA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61F4-46AA-4638-BB48-A70D59D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AF33-5CAB-42AA-AC2C-CE3B1757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253A-ED98-4FA4-939A-F814F427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85E7-AABA-4472-8DCA-35E02BE0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67757-BB58-4570-BCE3-DDD0C88E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AC65-DB5F-428E-8054-8A74743E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F88D-4968-46EC-9AB7-4843F765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F4E-ED96-4B70-91B2-CB13913A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6AA0D-0B0F-4F80-A916-A7308474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DC7F-A5FC-4A8D-BB8D-A90FA282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89CC-6856-41A6-A47D-87D8DB61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B0C8-1A32-4A5B-A1AF-1B564BD2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8B65-99DA-4C55-86D1-530F3F0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A77E-F5A4-4E10-A0F7-3AB668E8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591B-80C1-4BFD-BB3C-FA0AA6B5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48FBF-0A3A-4C7C-9D92-A116D3E7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4DA1-3086-47D9-B719-0204E38A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97F24-76F4-4568-83B2-5691F80D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AE3-B179-4484-B6CE-B076DA7F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64BCA-6B9C-4C5F-AABE-307C83BC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F0BD7-1022-47FB-8A65-E0464F7F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9E3C-881F-41A0-A199-A0E2DC91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3733-A063-4481-B57A-C533684A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B67DF-FE00-482B-B43C-2633CACC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0832-BA7B-4365-A6C3-779D6BF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5F6F-699D-4528-9482-3D765DF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3C3F6-FAA0-4620-9779-DD3CD1AB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A5A7C-747F-4A4D-A254-D3AF1E0C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21BD5-3867-405B-8C2E-91C76F6B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44C-6450-4002-B6B6-B62856EA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1DE1-B061-4AEE-BE34-2526298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1DC8-2D40-4730-91DB-31674726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AF8A2-DEA3-4832-8D04-833AAA28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3BCF-7FB4-40AE-B0ED-EB30CB0B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9E03-47D3-45E5-9879-9840D7CA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201AB-8083-4CFB-8899-0623787F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2A083-D1A3-4730-8373-EE78321A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04102-8495-4927-961C-73526D6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6713-B10C-42FE-8C10-58B683F6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B0F44-0289-461A-9D33-C06DE73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FDC-9438-4516-A30B-40BFE5A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034BE-D445-453F-AA75-5DBDFBAE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40BB7-5E83-4F6B-A8DA-ADEA4AC2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6921D-EDD2-4677-80AA-F81ED533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8AFBD-47DA-4655-8764-4F5F38A2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F34D7-9124-4962-8F16-9F3F9528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76A92-D689-4131-9849-C0650705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F20B-9FFE-48C8-B136-0637E7DB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9AA03-CB84-4170-8151-2F62B57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55EBE-DDBA-4871-A1E9-C8D06F23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A789D-2595-4614-963F-2F19CDB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E33-DE0A-4950-BF60-C43CFED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E895-0377-40FE-89C7-0365AD8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3B65C-A718-4884-88E3-C8D59E41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BB818-5DFB-4C15-9AA6-39650FA0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0DD17-44D3-4FE0-A72E-CDED439F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6E8F5-30EC-43B1-A003-4A1296FD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F4AA7-9545-49E3-B293-FB5E4D61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603CA-0632-4E7A-A5A7-F899055C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58370-115D-445F-9AB2-15A99701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60F3F-B756-46D8-AC5C-7997BB1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012F5-6D41-472A-BE0C-D252AE8E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53A-251F-456B-9699-704E17FC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57CF0-84B9-4DBC-9DCE-4F96D407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611E8-6789-4A68-A235-4868ABB1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2EA31-4DC6-4FD0-BACD-C0158BB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DAB49-70F3-44B7-93E6-C0891E95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30B8A-8AD0-4F68-BBD1-09A98E80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E1B94-7B61-4D70-9785-C3DAB1C8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2B5F-6A44-40E8-BA39-89B69477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DAED9-DD45-40B2-BCBC-B80D802D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AC67C-0063-4222-988C-BA64ECE4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17916-1A78-4448-B9B4-2D2EDD99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3D9B-6F8C-4B9C-8AA3-972CC012DD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7A43-4318-43EA-8489-FCB0B1B911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450E-6729-4B8A-B58F-D8CB90F8AE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6490-C0E5-495C-B4C3-0DC623EDDC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8337-E9C4-4370-AC10-5DAF7E4839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C36-283B-4111-BA7B-F0A4DFDFBD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E7D-E073-4D56-BD60-95EC855BD3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4E9E-CD6A-47F4-8C2E-568E9106B8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22A4-AB1E-4F74-93B0-CE889011EA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4AA6-7071-46A8-9118-9DE5CB4EA5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D162-907A-4C40-BFC9-1A3D6DCB4D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FF8E-FA29-47D2-81DC-76E75BFA85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DE6-BEDE-4FCA-BF40-698FC86901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029E-F33A-422C-829A-63D521131C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8F25-155D-476A-BA07-DB0AD037A0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EC85-0A35-4F0C-B476-03C4714ABF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26B7-FDD3-439C-AF69-F6BA0865F4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E223-531C-4725-8D0C-676F87232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Date Placeholder 1"/>
          <p:cNvSpPr/>
          <p:nvPr/>
        </p:nvSpPr>
        <p:spPr>
          <a:xfrm>
            <a:off x="5759280" y="588312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6DB-E4F5-4158-8499-CDC7A2BA73D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F435-F214-42A5-9AD2-BDB1A9B2C6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900" spc="-1" strike="noStrike">
                <a:solidFill>
                  <a:srgbClr val="000000"/>
                </a:solidFill>
                <a:latin typeface="Tw Cen MT"/>
              </a:rPr>
              <a:t>НАСТАВНА ЈЕДИНИЦА БР. 14</a:t>
            </a:r>
            <a:br>
              <a:rPr sz="2900"/>
            </a:br>
            <a:r>
              <a:rPr b="1" lang="sr-CS" sz="2900" spc="-1" strike="noStrike">
                <a:solidFill>
                  <a:srgbClr val="000000"/>
                </a:solidFill>
                <a:latin typeface="Tw Cen MT"/>
              </a:rPr>
              <a:t>МЕДИЦИНА ЗАСНОВАНА НА ДОКАЗИМА</a:t>
            </a:r>
            <a:br>
              <a:rPr sz="2900"/>
            </a:br>
            <a:br>
              <a:rPr sz="2900"/>
            </a:br>
            <a:r>
              <a:rPr b="0" lang="sr-RS" sz="2900" spc="-1" strike="noStrike">
                <a:solidFill>
                  <a:srgbClr val="000000"/>
                </a:solidFill>
                <a:latin typeface="Tw Cen MT"/>
              </a:rPr>
              <a:t>ОСНОВНИ ПРИНЦИПИ МЕДИЦИНЕ ЗАСНОВАНЕ НА ДОКАЗИМА И ЊИХОВА ИМПЛЕМЕНТАЦИЈА У ЈАВНО ЗДРАВСТВЕНИМ ИСТРАЖИВАЊИМ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8" name="Picture 8" descr=""/>
          <p:cNvPicPr/>
          <p:nvPr/>
        </p:nvPicPr>
        <p:blipFill>
          <a:blip r:embed="rId1"/>
          <a:stretch/>
        </p:blipFill>
        <p:spPr>
          <a:xfrm>
            <a:off x="1371600" y="142920"/>
            <a:ext cx="60530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МЗ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ЗАХТЕВА ВЕШТИНЕ ОД ЛЕКАРА И  ФАРМАЦЕУТА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РЕТРАЖИВАЊЕ ЛИТЕРАТУРЕ 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РИМЕНУ ОДРЕЂЕНИХ ПРАВИЛА ЗА ЕВАЛУАЦИЈУ ДОКАЗА ИЗ ЛИТЕРАТУРЕ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5791-09C0-4D58-A262-66EAA95B0C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533520" y="20574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ТУДИЈЕ КОЈЕ ПРОЦЕЊУЈУ ЕФИКАСНОСТ И БЕЗБЕДНОСТ НЕКОГ ТЕРАПИЈСКОГ ПОСТУПКА ИЛИ ЛЕКА НА ПАЦИЈЕНТИМА СЕ НАЗИВАЈУ КЛИНИЧКИМ СТУДИЈАМА У УЖЕМ СМИСЛУ РЕЧИ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А ЊИМА СЕ ЗАСНИВА САВРЕМЕНА ТЕРАПИЈСКА ПРАКСА, ТАКО ДА ЈЕ ОД ОГРОМНОГ ЗНАЧАЈА ПРАВИЛНО ПРОЦЕНИТ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ВАЛИДНОСТ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КЛИНИЧКУ ЗНАЧАЈНОСТ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ТАКВИХ СТУДИЈА, И ОДБАЦИТИ ОНЕ КОЈЕ НАС ВОДЕ НА ПОГРЕШАН ПУТ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65B3-510A-4B9B-99B4-EDC7124381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w Cen MT"/>
              </a:rPr>
              <a:t>ВАЛИДНА КЛИНИЧКА СТУДИЈА МОРА ДА ИСПУНИ СЛЕДЕЋЕ УСЛОВЕ: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МОРА БИТИ </a:t>
            </a: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РАНДОМИЗИРАНА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(ТЈ. ПАЦИЈЕНТИ СУ ПО ПРИНЦИПУ СЛУЧАЈНОГ ИЗБОРА СВРСТАНИ У ЕКСПЕРИМЕНТАЛНУ И КОНТРОЛНУ ГРУПУ) И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ДВОСТРУКО СЛЕПА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 (ТЈ. НИ ИСПИТИВАЧИ, НИ ПАЦИЈЕНТИ НИСУ ЗНАЛИ КО ПРИМА ПЛАЦЕБО, А КО АКТИВНУ КОНТРОЛУ);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И КОНТРОЛНА ГРУПА И ГРУПА КОЈА ПРИМА НОВИ ТРЕТМАН МОРАЈУ БИТИ </a:t>
            </a: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ПО СВЕМУ СЛИЧНЕ НА ПОЧЕТКУ СТУДИЈЕ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, И МОРАЈУ СЕ </a:t>
            </a: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ТРЕТИРАТИ НА ИСТИ НАЧИН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w Cen MT"/>
              </a:rPr>
              <a:t>СВИ ПАЦИЈЕНТИ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 КОЈИ СУ УШЛИ У СТУДИЈУ МОРАЈУ БИТИ УЗЕТИ У ОБЗИР ПРИЛИКОМ ИЗВОЂЕЊА ЗАКЉУЧАКА, И АНАЛИЗИРАНИ У ГРУПАМА У КОЈИМА СУ БИЛИ НА ПОЧЕТКУ (ДОЗВОЉИВО ЈЕ ДА НАЈВИШЕ 20% БОЛЕСНИКА КОЈИ СУ УШЛИ У СТУДИЈУ, ИСТУ НЕ ЗАВРШИ ДО КРАЈА, ВЕЋ РАНИЈЕ «ИСПАДНЕ» ИЗ ДАЉЕГ ЛЕЧЕЊА И ПРАЋЕЊА).</a:t>
            </a: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99B1-ADEC-4526-89C1-BE7DD85A5F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НАЧАЈНОСТ КЛИНИЧКЕ СТУДИЈ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МОРА СЕ  УЗЕТИ У ОБЗИР АПСОЛУТНО СМАЊЕЊЕ РИЗИКА КОЈЕ НОСИ НОВИ ЛЕК, И УТВРДИТИ </a:t>
            </a:r>
            <a:r>
              <a:rPr b="1" i="1" lang="ru-RU" sz="2000" spc="-1" strike="noStrike">
                <a:solidFill>
                  <a:srgbClr val="000000"/>
                </a:solidFill>
                <a:latin typeface="Tw Cen MT"/>
              </a:rPr>
              <a:t>БРОЈ БОЛЕСНИКА КОЈЕ ТРЕБА ЛЕЧИТИ НОВИМ ЛЕКОМ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ДА БИ СЕ ИЗБЕГАО НЕЖЕЉЕНИ ИСХОД КОД ЈЕДНОГ ОД ЊИХ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w Cen MT"/>
              </a:rPr>
              <a:t>(</a:t>
            </a:r>
            <a:r>
              <a:rPr b="0" lang="sr-Latn-CS" sz="2000" spc="-1" strike="noStrike">
                <a:solidFill>
                  <a:srgbClr val="ff0000"/>
                </a:solidFill>
                <a:latin typeface="Tw Cen MT"/>
              </a:rPr>
              <a:t>NUMBER NEEDED TO TREAT -NNT</a:t>
            </a:r>
            <a:r>
              <a:rPr b="0" lang="ru-RU" sz="2000" spc="-1" strike="noStrike">
                <a:solidFill>
                  <a:srgbClr val="ff0000"/>
                </a:solidFill>
                <a:latin typeface="Tw Cen MT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92A6-EE68-481A-8626-E00DAA5BD9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ИНТЕРПРЕТАЦИЈА РИЗИК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5720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Tw Cen MT"/>
              </a:rPr>
              <a:t>1     </a:t>
            </a:r>
            <a:r>
              <a:rPr b="0" lang="sr-Latn-CS" sz="1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NNT=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REDUKCIJA APSOLUTNOG RIZIKA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970C-560D-482C-9E48-E2314F2F64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5"/>
          <p:cNvSpPr/>
          <p:nvPr/>
        </p:nvSpPr>
        <p:spPr>
          <a:xfrm>
            <a:off x="1295280" y="27432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355680" y="4800600"/>
            <a:ext cx="87627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Relativni rizik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kontrolnojgru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8"/>
          <p:cNvSpPr/>
          <p:nvPr/>
        </p:nvSpPr>
        <p:spPr>
          <a:xfrm>
            <a:off x="2590920" y="5334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Rectangle 9"/>
          <p:cNvSpPr/>
          <p:nvPr/>
        </p:nvSpPr>
        <p:spPr>
          <a:xfrm>
            <a:off x="380880" y="6095880"/>
            <a:ext cx="8001000" cy="457200"/>
          </a:xfrm>
          <a:prstGeom prst="rect">
            <a:avLst/>
          </a:prstGeom>
          <a:solidFill>
            <a:srgbClr val="e34b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relativnog rizika = 1 – relativni riz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Text Box 13"/>
          <p:cNvSpPr/>
          <p:nvPr/>
        </p:nvSpPr>
        <p:spPr>
          <a:xfrm>
            <a:off x="304920" y="3505320"/>
            <a:ext cx="7696080" cy="974160"/>
          </a:xfrm>
          <a:prstGeom prst="rect">
            <a:avLst/>
          </a:prstGeom>
          <a:solidFill>
            <a:srgbClr val="aa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apsolutnog rizika = rizik u kontrolnoj grupi – rizik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МАТРА СЕ ДА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ЗНАЧАЈАН ЕФЕКАТ ПОСТОЈИ КАДА ТРЕБА ЛЕЧИТИ МАЊЕ ОД 15 БОЛЕСНИКА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ДА БИ СЕ ИЗБЕГАО НЕЖЕЉЕНИ ИСХОД КОД ЈЕДНОГ ОД ЊИХ, АЛИ ТО ЈЕ САМО СЛОБОДНА ПРОЦЕНА, КОЈА ДОСТА ЗАВИСИ ОД ТЕЖИНЕ НЕЖЕЉЕНОГ ИСХОДА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АКО ЈЕ НЕЖЕЉЕНИ ИСХОД СМРТ, ОНДА МОЖДА ВРЕДИ ЛЕЧИТИ И 20 БОЛЕСНИКА ДА БИ СЕ ЈЕДАН ОД ЊИХ СПАСАО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0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3C7-FC43-494A-90BE-DB2313CD56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КРИТЕРИЈУМИ ЗА ПРОЦЕНУ ВАЛИДНОСТИ И КЛИНИЧКЕ ЗНАЧАЈНОСТИ СТУДИЈЕ ПРОГНОСТИЧКОГ ФАКТОР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ДА БИ СТУДИЈА ПРОГНОСТИЧКОГ ФАКТОРА БИЛА ВАЛИДНА, ОНА МОРА ДА ПРАТИ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w Cen MT"/>
              </a:rPr>
              <a:t>РЕПРЕЗЕНТАТИВАН </a:t>
            </a: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УЗОРАК ПАЦИЈЕНАТА, КОЈИ ЈЕ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w Cen MT"/>
              </a:rPr>
              <a:t>ДОВОЉНО ВЕЛИКИ</a:t>
            </a: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Tw Cen MT"/>
              </a:rPr>
              <a:t>ДОВОЉНО ДУГО</a:t>
            </a:r>
            <a:r>
              <a:rPr b="0" i="1" lang="sr-CS" sz="2000" spc="-1" strike="noStrike">
                <a:solidFill>
                  <a:srgbClr val="000000"/>
                </a:solidFill>
                <a:latin typeface="Tw Cen MT"/>
              </a:rPr>
              <a:t> ДА СЕ ВИДИ КАКАВ ЋЕ БИТИ ИСХОД БОЛЕСТИ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3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9368-317D-4634-ADFE-4EBDBB510C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ВАЛИДНОСТ И КЛИНИ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КИ ЗНА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АЈ СТ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ДИЈА КОЈЕ СЕ БАВЕ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ТВР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ИВАЊЕМ НЕ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ЕЉЕНИ</a:t>
            </a:r>
            <a:r>
              <a:rPr b="0" i="1" lang="sr-CS" sz="24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i="1" lang="ru-RU" sz="2400" spc="-1" strike="noStrike">
                <a:solidFill>
                  <a:srgbClr val="000000"/>
                </a:solidFill>
                <a:latin typeface="Tw Cen MT"/>
              </a:rPr>
              <a:t>ДЕЈСТАВА ЛЕКОВ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КЛИНИ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КИ ЗНА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АЈ СЕ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ТВР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ЂУ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ЈЕ ЗАВИСНО ОД ВРСТЕ СТ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ДИЈЕ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 У 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МЕТОДОЛО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КОМ ПОГЛЕД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У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3880" indent="-207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АКО ЈЕ СТУДИЈА БИЛА ТИПА «СЛУЧАЈ-КОНТРОЛА», ОНДА СЕ КАО РЕЗУЛТАТ ДОБИЈА ОДНОС МОГУЋНОСТИ (ЕНГЛЕСКИ “ОДДС РАТИО“), КОЈИ ЈЕ ЗНАЧАЈАН САМО АКО ЈЕ ЈЕДНАК ИЛИ ВЕЋИ ОД 4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3880" indent="-207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АКО ЈЕ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А БИЛА ТИПА КЛИНИ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КЕ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Е ИЛИ КО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Х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ОРТНЕ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ОНДА ТРЕБА ВИДЕТИ КОЛИКИ ЈЕ РЕЛАТИВНИ РИЗИК ОД НАСТАНКА Н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ЕЉЕНОГ ДЕЈСТВА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;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АКО ЈЕ ОН В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И ОД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 3,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ОНДА РЕЗ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ЛТАТ СТ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ИЈЕ ИМА ПРАКТИ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НОГ СМИСЛА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EC20-FDC3-4C9E-9049-976ABAF3B7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ПРОРАЧУН </a:t>
            </a:r>
            <a:r>
              <a:rPr b="0" lang="sr-CS" sz="2800" spc="-1" strike="noStrike">
                <a:solidFill>
                  <a:srgbClr val="000000"/>
                </a:solidFill>
                <a:latin typeface="Tw Cen MT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ОДНОСА МОГ</a:t>
            </a:r>
            <a:r>
              <a:rPr b="0" lang="sr-CS" sz="2800" spc="-1" strike="noStrike">
                <a:solidFill>
                  <a:srgbClr val="000000"/>
                </a:solidFill>
                <a:latin typeface="Tw Cen MT"/>
              </a:rPr>
              <a:t>УЋ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НОСТИ</a:t>
            </a:r>
            <a:r>
              <a:rPr b="0" lang="sr-CS" sz="2800" spc="-1" strike="noStrike">
                <a:solidFill>
                  <a:srgbClr val="000000"/>
                </a:solidFill>
                <a:latin typeface="Tw Cen MT"/>
              </a:rPr>
              <a:t>» </a:t>
            </a:r>
            <a:r>
              <a:rPr b="0" lang="ru-RU" sz="2800" spc="-1" strike="noStrike">
                <a:solidFill>
                  <a:srgbClr val="000000"/>
                </a:solidFill>
                <a:latin typeface="Tw Cen MT"/>
              </a:rPr>
              <a:t>И РЕЛАТИВНОГ РИЗИК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848" name="Object 4"/>
          <p:cNvGraphicFramePr/>
          <p:nvPr/>
        </p:nvGraphicFramePr>
        <p:xfrm>
          <a:off x="762120" y="2611440"/>
          <a:ext cx="7848360" cy="231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1440"/>
                    <a:ext cx="7848360" cy="2319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0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6D3-D8E3-4AD5-9725-29CEBFD0D1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ОРЕД ОДНОСА МОГ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Ћ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ОСТИ И РЕЛАТИВНОГ РИЗИ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ОРИСНО ЈЕ ОДРЕДИТИ И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АПСОЛ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ТНО ПОВЕ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АЊЕ РИЗИ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НА ПРИМЕР, АКО ЈЕ АПСОЛУТНИ РИЗИК ОД ПОЈАВЕ УРОЂЕНЕ АНОМАЛИЈЕ МОЗГА КОД ДЕЦЕ ЧИЈЕ МАЈКЕ У ТРУДНОЋИ НИСУ КОРИСТИЛЕ ЛЕКОВЕ 1%, А КОД ДЕЦЕ ЧИЈЕ МАЈКЕ СУ УЗИМАЛЕ АНТИЕПИЛЕПТИК ВАЛПРОАТ 2%, ОНДА ЈЕ АПСОЛУТНО ПОВЕЋАЊЕ РИЗИКА ОД АНОМАЛИЈА МОЗГА СА ПРИМЕНОМ ВАЛПРОАТА ЈЕДНАКО 2% - 1% = 1%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ТО ЗАПРАВО ЗН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 Д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100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ЈЕНТКИЊА ТРЕБ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ТР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НО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 Д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ЗИМА ВАЛПРОАТ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А БИ СЕ КОД ДЕТЕТА САМО ЈЕДНЕ ОД ЊИ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ОЈАВИЛЕ АНОМАЛИЈЕ МОЗГА НА РО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Е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(100/1 = 100)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CDE6-69D4-481F-BEF3-627AFDE2A6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ЕДИЦИНА ЗАСНОВАНА НА ДОКАЗИМ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ЈЕ ПАЖЉИВА, ПРОМИШЉЕНА УПОТРЕБА НАЈБОЉИХ ДОКАЗА ИЗ МЕДИЦИНСКЕ ЛИТЕРАТУРЕ У ДОНОШЕЊУ ОДЛУКЕ О ЛЕЧЕЊУ КОНКРЕТНОГ БОЛЕСНИК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ИНДИВИДУАЛНО КЛИНИЧКО ИСКУСТВО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 СЕ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w Cen MT"/>
              </a:rPr>
              <a:t>МОРА</a:t>
            </a:r>
            <a:r>
              <a:rPr b="0" lang="ru-RU" sz="2200" spc="-1" strike="noStrike">
                <a:solidFill>
                  <a:srgbClr val="000000"/>
                </a:solidFill>
                <a:latin typeface="Tw Cen MT"/>
              </a:rPr>
              <a:t> ИНТЕГРИСАТИ СА РЕЗУЛТАТИМА (ДОКАЗИМА) КЛИНИЧКИХ СТУДИЈА, КОЈЕ СУ МЕТОДОЛОШКИ БИЛЕ ДОБРО ПОСТАВЉЕНЕ, И ЧИЈИ РЕЗУЛТАТИ ИМАЈУ КЛИНИЧКИ ЗНАЧАЈ, ТЈ. ЊИХОВА ПРИМЕНА У ПРАКСИ ИМА СМИСЛ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CDAD-2541-4CF8-9E5B-0710930235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ОВАКВУ ВЕЛИЧИНУ, КОЈА ПРЕДСТАВЉА </a:t>
            </a:r>
            <a:r>
              <a:rPr b="1" i="1" lang="sr-CS" sz="2400" spc="-1" strike="noStrike">
                <a:solidFill>
                  <a:srgbClr val="000000"/>
                </a:solidFill>
                <a:latin typeface="Tw Cen MT"/>
              </a:rPr>
              <a:t>РЕЦИПРОЧНУ ВРЕДНОСТ АПСОЛУТНОГ ПОВЕЋАЊА РИЗИ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НАЗИВАМО «БРОЈ БОЛЕСНИКА КОЈЕ ТРЕБА ЛЕЧИТИ ДА БИ СЕ КОД ЈЕДНОГ ЈАВИЛО НЕЖЕЉЕНО ДЕЈСТВО», ИЛИ ЕНГЛЕСКИ 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НУМБЕР НЕЕДЕД ТО ХАРМ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ННХ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АКО ИЗР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ЧУ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АМО ННХ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БОЉЕ 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МО РАЗ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МЕТИ КАКВОМ СЕ ЗАПРАВО РИЗИК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ЗЛ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ЈЕНТ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ЗИМАЈ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Ћ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 ОДР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НИ ЛЕК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66ED-7518-48B5-AD7D-F12D5DA2AF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617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ЕТАР ПЕТРОВИЋ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,78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 ГОДИНА.</a:t>
            </a: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ИМАО ЈЕ ИМ ПРЕ ДВА МЕСЕЦА , ДОБРО СЕ ОСЕЋА, ЛАБОРАТОРИЈСКИ НАЛАЗИ ПОКАЗУЈУ ДА ИМА ХОЛЕСТЕРОЛА У ГРАНИЦАМА НОРМАЛ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МЕЂУТИМ, ОБРАТИО СЕ ЗА САВЕТ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3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i="1" lang="sr-CS" sz="1800" spc="-1" strike="noStrike">
                <a:solidFill>
                  <a:srgbClr val="000000"/>
                </a:solidFill>
                <a:latin typeface="Tw Cen MT"/>
              </a:rPr>
              <a:t>ДА ЛИ ТРЕБА ДА КОРИСТИ НЕКИ ЛЕК СТАТИН, КОЈИ ЈЕ ПРОПИСАН ЊЕГОВОМ ПРИЈАТЕЉУ КОЈИ ЈЕ ТАКОЂЕ ИМАО ИМ</a:t>
            </a:r>
            <a:r>
              <a:rPr b="0" i="1" lang="en-GB" sz="1800" spc="-1" strike="noStrike">
                <a:solidFill>
                  <a:srgbClr val="000000"/>
                </a:solidFill>
                <a:latin typeface="Tw Cen MT"/>
              </a:rPr>
              <a:t>?</a:t>
            </a:r>
            <a:r>
              <a:rPr b="0" i="1" lang="sr-CS" sz="18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A3ED-9A64-4258-9476-DAB1CE8FEE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sr-CS" sz="31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100" spc="-1" strike="noStrike">
                <a:solidFill>
                  <a:srgbClr val="000000"/>
                </a:solidFill>
                <a:latin typeface="Arial Rounded MT Bold"/>
              </a:rPr>
              <a:t>…. </a:t>
            </a:r>
            <a:r>
              <a:rPr b="0" lang="sr-Latn-CS" sz="3100" spc="-1" strike="noStrike">
                <a:solidFill>
                  <a:srgbClr val="ff0000"/>
                </a:solidFill>
                <a:latin typeface="Arial Rounded MT Bold"/>
              </a:rPr>
              <a:t>PICO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10920" y="1628640"/>
            <a:ext cx="799452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ATIENT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КОД ПАЦИЈЕНАТА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&gt;70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СА ИМ ,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АЛИ ХОЛЕСТЕРОЛ ЈЕ У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НОРМАЛНИМ ВРЕДНОСТИМА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NTERVENTION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ТРЕБА ДА СЕ УКЉУЧИ И                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ТЕРАПИЈА СТАТИНОМ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OMPARISON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КАО ДОДАТНА ТЕРАПИЈА  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ac339a"/>
                </a:solidFill>
                <a:uFillTx/>
                <a:latin typeface="Tw Cen MT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UTCOME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….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ЈЕР СМАЊУЈЕ МОРТАЛИТЕТ ИЛИ 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МОРБИДИТЕТ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680" indent="14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622F-6FEA-4424-B000-E4A002EE08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w Cen MT"/>
              </a:rPr>
              <a:t>HEART PROTECTION STUDY  </a:t>
            </a:r>
            <a:r>
              <a:rPr b="0" i="1" lang="en-GB" sz="3100" spc="-1" strike="noStrike">
                <a:solidFill>
                  <a:srgbClr val="000000"/>
                </a:solidFill>
                <a:latin typeface="Tw Cen MT"/>
              </a:rPr>
              <a:t>(LANCET 2002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STATIN THERAPY OFFERS A 33% REDUCTION IN FURTHER CHD EVENTS IN HIGH RISK PATIENTS </a:t>
            </a:r>
            <a:r>
              <a:rPr b="1" i="1" lang="en-GB" sz="2700" spc="-1" strike="noStrike">
                <a:solidFill>
                  <a:srgbClr val="000000"/>
                </a:solidFill>
                <a:latin typeface="Tw Cen MT"/>
              </a:rPr>
              <a:t>EVEN </a:t>
            </a: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EN CHOLESTEROL NORMAL OR LOW</a:t>
            </a:r>
            <a:r>
              <a:rPr b="0" lang="sr-CS" sz="27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440000" indent="-205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w Cen MT"/>
              </a:rPr>
              <a:t>НАШЕМ ПАЦИЈЕНУ- ПЕТРУ ПЕТРОВИЋУ </a:t>
            </a:r>
            <a:r>
              <a:rPr b="1" lang="sr-CS" sz="2100" spc="-1" strike="noStrike">
                <a:solidFill>
                  <a:srgbClr val="000000"/>
                </a:solidFill>
                <a:latin typeface="Tw Cen MT"/>
              </a:rPr>
              <a:t>ТРЕБА</a:t>
            </a:r>
            <a:r>
              <a:rPr b="0" lang="sr-CS" sz="2100" spc="-1" strike="noStrike">
                <a:solidFill>
                  <a:srgbClr val="000000"/>
                </a:solidFill>
                <a:latin typeface="Tw Cen MT"/>
              </a:rPr>
              <a:t> ПРЕПОРУЧИТИ УКЉУЧИВАЊЕ СТАТИНА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17040" indent="-205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57DB-25BD-4B79-8311-BA6912C762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w Cen MT"/>
              </a:rPr>
              <a:t>ФЗД ПОЧИЊЕ И ЗАВРШАВА СЕ СА ПАЦИЈЕНТОМ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ИСТРАЖИВАЧКИ АЛГОРИТАМ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ФОРМУЛИСАТИ ПИТАЊЕ У ОДНОСУ НА ПОТРЕБЕ ПАЦИЈЕНТ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ТРАЖИТИ ОДГОВОР СА НАЈБОЉИМ ДОКАЗИМ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КРИТИЧКИ ВРШИТИ ПРОЦЕНУ ДОКАЗА КОЈИ СМО ПРОНАШЛ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ПРИМЕНИТИ РЕЗУЛТАТЕ У ПРАКС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99960" indent="-399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w Cen MT"/>
              </a:rPr>
              <a:t>ПРОЦЕНА РЕЗУЛТАТ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7F8A-7DBE-4E43-9C4C-436FD7ABCA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7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w Cen MT"/>
              </a:rPr>
              <a:t>ПРОЦЕНА РЕЗУЛТА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ДЗО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А ЕФИКАСНОСТ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ТРОШКОВ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ОДАТАКА О ПАЦИЈЕНТУ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РОПИСАНЕ ТЕРАПИЈЕ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ФЕРЕНТНЕ СТОПЕ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ПЕН МОРТАЛИТЕТ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МОРБИДИТЕТА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1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5D1-9997-41B6-B529-8FFC09FEB4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КОРАЦИ У СПРОВОЂЕЊУ МЗ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ОСТАВЉАЊЕ ПРОБЛЕМ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ЕТРАЖИВАЊЕ ЛИТЕРАТУР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КРИТИЧКА ОБРАДА ЛИТЕРАТУР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ФОРМУЛИСАЊЕ ОДГОВОР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ОВЕРА ПРИМЕНЉИВОСТИ ОДГОВОР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ИМЕНА РЕЗУЛТА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ПРОЦЕНА ЕФЕКАТА </a:t>
            </a:r>
            <a:r>
              <a:rPr b="0" lang="sr-Latn-RS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Tw Cen MT"/>
              </a:rPr>
              <a:t>ЗД У ПРАКС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831D-1B7A-473E-936F-9E983327BB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ЗД ЈЕ ЗАСНОВАНА НА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24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Tw Cen MT"/>
              </a:rPr>
              <a:t>НАУЧНОМ МЕТОДУ</a:t>
            </a:r>
            <a:r>
              <a:rPr b="0" lang="sr-CS" sz="2600" spc="-1" strike="noStrike">
                <a:solidFill>
                  <a:srgbClr val="000000"/>
                </a:solidFill>
                <a:latin typeface="Tw Cen MT"/>
              </a:rPr>
              <a:t> КЉУЧНИ ИЗВОР ЗНАЊА У ДОНОШЕЊУ КЛИНИЧКИХ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21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Tw Cen MT"/>
              </a:rPr>
              <a:t>ОДЛУКА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787" name="Diagram 7"/>
          <p:cNvGrpSpPr/>
          <p:nvPr/>
        </p:nvGrpSpPr>
        <p:grpSpPr>
          <a:xfrm>
            <a:off x="3929040" y="1885680"/>
            <a:ext cx="4876920" cy="3926880"/>
            <a:chOff x="3929040" y="1885680"/>
            <a:chExt cx="4876920" cy="3926880"/>
          </a:xfrm>
        </p:grpSpPr>
        <p:sp>
          <p:nvSpPr>
            <p:cNvPr id="788" name="_s1028"/>
            <p:cNvSpPr/>
            <p:nvPr/>
          </p:nvSpPr>
          <p:spPr>
            <a:xfrm flipH="1" flipV="1">
              <a:off x="5164560" y="3632760"/>
              <a:ext cx="5997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_s1029"/>
            <p:cNvSpPr/>
            <p:nvPr/>
          </p:nvSpPr>
          <p:spPr>
            <a:xfrm>
              <a:off x="3929040" y="2978280"/>
              <a:ext cx="1266480" cy="1059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Закључак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репорук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_s1030"/>
            <p:cNvSpPr/>
            <p:nvPr/>
          </p:nvSpPr>
          <p:spPr>
            <a:xfrm flipH="1">
              <a:off x="5621400" y="4390200"/>
              <a:ext cx="37368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_s1031"/>
            <p:cNvSpPr/>
            <p:nvPr/>
          </p:nvSpPr>
          <p:spPr>
            <a:xfrm>
              <a:off x="4618440" y="4753440"/>
              <a:ext cx="1266480" cy="10591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валитет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доказ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_s1032"/>
            <p:cNvSpPr/>
            <p:nvPr/>
          </p:nvSpPr>
          <p:spPr>
            <a:xfrm>
              <a:off x="6738120" y="4390200"/>
              <a:ext cx="37188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3" name="_s1033"/>
            <p:cNvSpPr/>
            <p:nvPr/>
          </p:nvSpPr>
          <p:spPr>
            <a:xfrm>
              <a:off x="6848280" y="4753440"/>
              <a:ext cx="1266480" cy="10591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Евалуација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литератур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4" name="_s1034"/>
            <p:cNvSpPr/>
            <p:nvPr/>
          </p:nvSpPr>
          <p:spPr>
            <a:xfrm flipV="1">
              <a:off x="6968880" y="3634920"/>
              <a:ext cx="6019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5" name="_s1035"/>
            <p:cNvSpPr/>
            <p:nvPr/>
          </p:nvSpPr>
          <p:spPr>
            <a:xfrm>
              <a:off x="7539480" y="2978280"/>
              <a:ext cx="1266480" cy="10591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одговарајућ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информациј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6" name="_s1036"/>
            <p:cNvSpPr/>
            <p:nvPr/>
          </p:nvSpPr>
          <p:spPr>
            <a:xfrm flipV="1">
              <a:off x="6366600" y="2903040"/>
              <a:ext cx="0" cy="52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7" name="_s1037"/>
            <p:cNvSpPr/>
            <p:nvPr/>
          </p:nvSpPr>
          <p:spPr>
            <a:xfrm>
              <a:off x="5699880" y="1885680"/>
              <a:ext cx="1266480" cy="10591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линичко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итањ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_s1038"/>
            <p:cNvSpPr/>
            <p:nvPr/>
          </p:nvSpPr>
          <p:spPr>
            <a:xfrm>
              <a:off x="5699880" y="3469680"/>
              <a:ext cx="1266480" cy="10591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900" spc="-1" strike="noStrike">
                  <a:solidFill>
                    <a:srgbClr val="000000"/>
                  </a:solidFill>
                  <a:latin typeface="Verdana"/>
                </a:rPr>
                <a:t>ФЗД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AutoShape 31"/>
            <p:cNvSpPr/>
            <p:nvPr/>
          </p:nvSpPr>
          <p:spPr>
            <a:xfrm>
              <a:off x="7238520" y="2132280"/>
              <a:ext cx="684720" cy="76212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639371"/>
                  <a:lnTo>
                    <a:pt x="2064" y="4450"/>
                  </a:lnTo>
                  <a:arcTo wR="10800" hR="10800" stAng="-8639371" swAng="863937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0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D2B8-4C91-4211-94B1-75FD3ECBE7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AutoShape 30"/>
          <p:cNvSpPr/>
          <p:nvPr/>
        </p:nvSpPr>
        <p:spPr>
          <a:xfrm>
            <a:off x="6858000" y="2057400"/>
            <a:ext cx="685800" cy="762120"/>
          </a:xfrm>
          <a:custGeom>
            <a:avLst/>
            <a:gdLst>
              <a:gd name="textAreaLeft" fmla="*/ 100440 w 685800"/>
              <a:gd name="textAreaRight" fmla="*/ 585360 w 68580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071" y="5399"/>
                  <a:pt x="7447" y="6227"/>
                  <a:pt x="6431" y="7625"/>
                </a:cubicBezTo>
                <a:lnTo>
                  <a:pt x="2063" y="4450"/>
                </a:lnTo>
                <a:cubicBezTo>
                  <a:pt x="4095" y="1654"/>
                  <a:pt x="7343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ЗД ЈЕ ЗАСНОВАНА НА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2367000"/>
            <a:ext cx="3828960" cy="3424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w Cen MT"/>
              </a:rPr>
              <a:t>НАУЧНОМ МЕТОДУ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ДЕНТИФИКОВАЊЕ ПРОБЛЕМ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ПРИКУПЉАЊЕ ИНФОРМАЦИЈ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ЕВАЛУАЦИЈА ИНФОРМАЦИЈ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ПРЕПОРУК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СХОД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629240" y="2367000"/>
            <a:ext cx="3828960" cy="3424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ПОРЕД ТОГА НА ДОНОШЕЊЕ ОДЛУКА УТИЧУ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СКУСТВО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АУТОРИТЕ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ИСТРАЖИВАЊ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717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ЛОГИЧКО РАЗМИШЉАЊ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Slide Number Placeholder 6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9888-1784-42F6-B35F-422966C1FC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МЗД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ЈЕ ИНТЕГРАЦИЈА КЛИНИЧКОГ ИСКУСТВА, СИСТЕМА ВРЕДНОСТИ ПАЦИЈЕНТА И НАЈБОЉИХ ДОКАЗА ИЗ ЛИТЕРАТУР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ОКАЗИ САМИ ПО СЕБИ НЕ ДОВОДЕ ДО ЗАКЉУЧАКА, ВЕЋ САМО ПОМАЖУ У ОДРЕЂИВАЊУ НАЈБОЉЕГ ТРЕТМАНА ПАЦИЈЕНТА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05D7-7FA5-4893-B7CE-5C055E14AA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w Cen MT"/>
              </a:rPr>
              <a:t>ПОСТАВЉАЊЕ ПРОБЛЕМ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У РАД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СА БОЛЕСН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МА СЕ СПОНТАНО ЈАВЉАЈ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РОБЛЕМИ КОЈЕ МОРАМО Р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АВАТ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 НА ОСНОВ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ОЈ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МИ </a:t>
            </a:r>
            <a:r>
              <a:rPr b="1" i="1" lang="ru-RU" sz="2400" spc="-1" strike="noStrike">
                <a:solidFill>
                  <a:srgbClr val="ff0000"/>
                </a:solidFill>
                <a:latin typeface="Tw Cen MT"/>
              </a:rPr>
              <a:t>ПОСТАВЉАМО ПИТАЊ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НА КОЈА ПОТОМ ТР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МО ОДГОВОР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РОБЛЕМИ СЕ ЈАВЉАЈ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У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ОСТАВЉА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ИЈАГНОЗЕ БОЛЕ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ОТКРИВА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ЊЕНОГ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ЗРОК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ЗБОР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ДИЈАГНОСТИ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КИ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МЕТОДА КОЈЕ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Е НАЈПРЕ ДОВЕСТИ ДО ДИЈАГНОЗ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ЗБОР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Н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НА ЛЕ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ЕЊА 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ОДРЕ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ИВАЊ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Tw Cen MT"/>
              </a:rPr>
              <a:t>ПРОГНОЗЕ ЛЕЧЕЊА БОЛЕСНИКА</a:t>
            </a:r>
            <a:r>
              <a:rPr b="0" lang="sr-C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E49-60EC-4292-AA86-D99972E214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Р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ЊЕ ПРОБЛЕМА МНОГО ЗАВИСИ ОД </a:t>
            </a:r>
            <a:r>
              <a:rPr b="0" lang="ru-RU" sz="2400" spc="-1" strike="noStrike">
                <a:solidFill>
                  <a:srgbClr val="ff0000"/>
                </a:solidFill>
                <a:latin typeface="Tw Cen MT"/>
              </a:rPr>
              <a:t>ПРАВИЛНОГ ПОСТАВЉАЊА ПИТАЊ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53316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ДОБРО ПОСТАВЉЕНО ПИТАЊЕ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ВЕК ИМА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 4 </a:t>
            </a:r>
            <a:r>
              <a:rPr b="0" lang="ru-RU" sz="1900" spc="-1" strike="noStrike">
                <a:solidFill>
                  <a:srgbClr val="000000"/>
                </a:solidFill>
                <a:latin typeface="Tw Cen MT"/>
              </a:rPr>
              <a:t>ЕЛЕМЕНТА</a:t>
            </a:r>
            <a:r>
              <a:rPr b="0" lang="sr-CS" sz="1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ПР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ЗНО Д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Ф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НИСАНО 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КОЈА СЕ ПЛАНИРА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АЛТЕРНАТИВН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СА КОЈОМ СЕ ПЛАНИРАНА ИНТЕРВЕ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ПОР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Ђ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ИС</a:t>
            </a:r>
            <a:r>
              <a:rPr b="1" lang="sr-CS" sz="1700" spc="-1" strike="noStrike">
                <a:solidFill>
                  <a:srgbClr val="000000"/>
                </a:solidFill>
                <a:latin typeface="Tw Cen MT"/>
              </a:rPr>
              <a:t>Х</a:t>
            </a: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ОД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 КОЈИ СЕ О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К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ВО ПРИМЕРА ДОБРО ПОСТАВЉЕНОГ ПИТАЊ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«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ДА ЛИ КОД БОЛЕСНИКА С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Х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РОН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НОМ СР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АНОМ ИНС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УФ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ЈЕ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ЈОМ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3.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СТЕПЕН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ПРИМЕНА АЦ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Х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ИБИТОР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ПЛАНИРАНА ИНТЕРВЕН</a:t>
            </a:r>
            <a:r>
              <a:rPr b="0" i="1" lang="sr-CS" sz="1700" spc="-1" strike="noStrike">
                <a:solidFill>
                  <a:srgbClr val="ed87a6"/>
                </a:solidFill>
                <a:latin typeface="Tw Cen MT"/>
              </a:rPr>
              <a:t>Ц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СМАЊ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ЈЕ СМРТНОСТ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ИС</a:t>
            </a:r>
            <a:r>
              <a:rPr b="0" i="1" lang="sr-CS" sz="1700" spc="-1" strike="noStrike">
                <a:solidFill>
                  <a:srgbClr val="ed87a6"/>
                </a:solidFill>
                <a:latin typeface="Tw Cen MT"/>
              </a:rPr>
              <a:t>Х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ОД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В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Ш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 ИЛИ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МАЊЕ ОД БЛОКАТОРА РЕ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Tw Cen MT"/>
              </a:rPr>
              <a:t>ЕПТОРА ЗА АНГИОТЕНЗИН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АЛТЕРНАТИВНА ИНТЕРВЕН</a:t>
            </a:r>
            <a:r>
              <a:rPr b="0" i="1" lang="sr-CS" sz="1700" spc="-1" strike="noStrike">
                <a:solidFill>
                  <a:srgbClr val="ed87a6"/>
                </a:solidFill>
                <a:latin typeface="Tw Cen MT"/>
              </a:rPr>
              <a:t>Ц</a:t>
            </a:r>
            <a:r>
              <a:rPr b="0" i="1" lang="ru-RU" sz="1700" spc="-1" strike="noStrike">
                <a:solidFill>
                  <a:srgbClr val="ed87a6"/>
                </a:solidFill>
                <a:latin typeface="Tw Cen MT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Tw Cen MT"/>
              </a:rPr>
              <a:t>)»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41E2-0C2A-4FFC-B26B-4DFC8C99E2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ГДЕ И КАКО ТРА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ИМО ОДГОВОРЕ НА ПИТАЊА КОЈА ПОСТАВЉАМО ТОКОМ ТРЕТМАН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ПРЕ СВЕГА ТРЕБА ПРЕТР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ИТИ 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БАЗЕ ПОДАТАКА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 НА ИНТЕРНЕТ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ОЈЕ САДР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Е СИСТЕМАТСКЕ ПРЕГЛЕДНЕ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Ч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ЛАНКЕ О ПОЈЕДИНИМ КЛИНИ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Tw Cen MT"/>
              </a:rPr>
              <a:t>КИМ ПРОБЛЕМИМ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14560" indent="-2145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НАЈПОУЗДАНИЈА ОД ТАКВИХ БАЗА ЈЕ </a:t>
            </a:r>
            <a:r>
              <a:rPr b="1" lang="sr-CS" sz="2400" spc="-1" strike="noStrike">
                <a:solidFill>
                  <a:srgbClr val="000000"/>
                </a:solidFill>
                <a:latin typeface="Tw Cen MT"/>
              </a:rPr>
              <a:t>КОХРАНОВА БАЗА ПОДАТАКА</a:t>
            </a:r>
            <a:r>
              <a:rPr b="0" lang="sr-CS" sz="2400" spc="-1" strike="noStrike">
                <a:solidFill>
                  <a:srgbClr val="000000"/>
                </a:solidFill>
                <a:latin typeface="Tw Cen MT"/>
              </a:rPr>
              <a:t> ЈЕР СУ СВИ СИТЕМАТСКИ ПРЕГЛЕДНИ ЧЛАНЦИ У ЊОЈ РАЂЕНИ ПРЕМА МЕТОДОЛОШКИМ ПРИНЦИПИМА МЗД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Slide Number Placeholder 5"/>
          <p:cNvSpPr/>
          <p:nvPr/>
        </p:nvSpPr>
        <p:spPr>
          <a:xfrm>
            <a:off x="7885080" y="5883120"/>
            <a:ext cx="57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7F1-8D8D-4053-9C22-50F0D45474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.Milovanovic</dc:creator>
  <dc:description/>
  <dc:language>en-US</dc:language>
  <cp:lastModifiedBy>User</cp:lastModifiedBy>
  <dcterms:modified xsi:type="dcterms:W3CDTF">2019-02-10T07:58:3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